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1B0F-ADAA-4DD5-A452-F28D6799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E1A17-EA92-4B58-95F7-F3B782B1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3ADA-F81C-4DAC-B197-BFADBA61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1EDD-06D0-4EE7-8FFC-B88C4AFD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D214-D793-4422-9663-78AAACD5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44D6-A5B0-43D9-B915-4503A66F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B7C7-89AA-4D3C-B9DE-B2C6086C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29B4-15FF-438C-BCA7-D1A172F8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AD51-E39B-4170-8134-F38DD9CA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C868-0AD1-43D6-A536-4CC134B4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FBAF-97EC-4317-A390-1B896DFD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BF32-E407-4FCB-8391-E525F162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211F-6782-4DE4-857F-BA36F587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C0F6-D5DC-41E2-802F-49BC2560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DC40-0710-41D2-8876-042C30D9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8F2D-FB94-4C3C-92AB-F7BE89F7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296B-BFD8-4040-8561-C41DCAFB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90D0-3FB7-4032-BE29-F605EB9C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E3F49-4907-4334-B868-18CC207F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E2A9-EE48-4943-A90C-24AFAA05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4555-613C-4CFC-A94E-B01A7B37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3B33-E6FD-482E-81AB-B5BD2F82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B6C3-A377-4CE5-A681-90A181D0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3A88-577A-425E-AA5D-3536C0ED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5AB1-53EC-4871-87AC-A83E8FB5BA39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77560" y="6269760"/>
            <a:ext cx="2084040" cy="426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7889-0686-4D62-821B-04BC521DBD94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5e47"/>
                </a:solidFill>
                <a:latin typeface="Cambria"/>
              </a:rPr>
              <a:t>Những thay đổi sinh lý trong thời kì mang thai </a:t>
            </a:r>
            <a:endParaRPr b="0" lang="en-US" sz="5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11200" y="5445000"/>
            <a:ext cx="6400800" cy="9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e8d8c"/>
                </a:solidFill>
                <a:latin typeface="Calibri"/>
              </a:rPr>
              <a:t>Docteur Aurélie Gouel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e8d8c"/>
                </a:solidFill>
                <a:latin typeface="Calibri"/>
              </a:rPr>
              <a:t>Hôpital Bichat-Claude Bernard, Paris, Fran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8" name="Picture 5" descr="j0294933"/>
          <p:cNvPicPr/>
          <p:nvPr/>
        </p:nvPicPr>
        <p:blipFill>
          <a:blip r:embed="rId1"/>
          <a:stretch/>
        </p:blipFill>
        <p:spPr>
          <a:xfrm>
            <a:off x="1042920" y="46530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1589040"/>
            <a:ext cx="843588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4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f2b20"/>
                </a:solidFill>
                <a:latin typeface="Calibri"/>
              </a:rPr>
              <a:t>Tim nằm ngang hơn và có xu hướng xoay ra trước 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4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f2b20"/>
                </a:solidFill>
                <a:latin typeface="Calibri"/>
              </a:rPr>
              <a:t>Điện tâm đồ thường có hình thái  S1Q3T3 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40000"/>
              </a:lnSpc>
              <a:spcBef>
                <a:spcPts val="374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2f2b20"/>
                </a:solidFill>
                <a:latin typeface="Calibri"/>
              </a:rPr>
              <a:t>Trục điện tim lệch trái  (15%)</a:t>
            </a:r>
            <a:endParaRPr b="0" lang="en-US" sz="1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4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f2b20"/>
                </a:solidFill>
                <a:latin typeface="Calibri"/>
              </a:rPr>
              <a:t>Tiếng thổi tống máu cơ năng , độ 2  : 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4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f2b20"/>
                </a:solidFill>
                <a:latin typeface="Calibri"/>
              </a:rPr>
              <a:t>Hở các van tim do các buồng tim giãn ( đặc biệt là tim phải )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4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f2b20"/>
                </a:solidFill>
                <a:latin typeface="Calibri"/>
              </a:rPr>
              <a:t>Biến mất sau ngày t8 sau đẻ 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4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f2b20"/>
                </a:solidFill>
                <a:latin typeface="Calibri"/>
              </a:rPr>
              <a:t>Khối lượng hồng cầu  </a:t>
            </a:r>
            <a:r>
              <a:rPr b="0" lang="fr-FR" sz="1900" spc="-1" strike="noStrike">
                <a:solidFill>
                  <a:srgbClr val="2f2b20"/>
                </a:solidFill>
                <a:latin typeface="Calibri"/>
                <a:ea typeface="Arial"/>
              </a:rPr>
              <a:t>↗ 20-30%,  hématocrite giảm 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4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f2b20"/>
                </a:solidFill>
                <a:latin typeface="Calibri"/>
                <a:ea typeface="Arial"/>
              </a:rPr>
              <a:t>Độ nhớt của máu giảm nhưng tăng trở lại trong 3 tháng cuối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4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f2b20"/>
                </a:solidFill>
                <a:latin typeface="Calibri"/>
                <a:ea typeface="Arial"/>
              </a:rPr>
              <a:t>Tăng cung lượng tuần hoàn ngoại biên Augmentation des débits périphériques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4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f2b20"/>
                </a:solidFill>
                <a:latin typeface="Calibri"/>
                <a:ea typeface="Arial"/>
              </a:rPr>
              <a:t>Đến da ( để tăng thải nhiết)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4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f2b20"/>
                </a:solidFill>
                <a:latin typeface="Calibri"/>
                <a:ea typeface="Arial"/>
              </a:rPr>
              <a:t>Đến thận và phổi 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4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4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57200" y="274680"/>
            <a:ext cx="793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Các thay đổi về tim mạch</a:t>
            </a:r>
            <a:endParaRPr b="0" lang="en-US" sz="4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13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f2b20"/>
                </a:solidFill>
                <a:latin typeface="Calibri"/>
              </a:rPr>
              <a:t>Tần số tim 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13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f2b20"/>
                </a:solidFill>
                <a:latin typeface="Calibri"/>
              </a:rPr>
              <a:t>Đến tuần thứ 5 ↗ 10%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13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f2b20"/>
                </a:solidFill>
                <a:latin typeface="Calibri"/>
              </a:rPr>
              <a:t>Đủ tháng  : ↗ 20-30%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13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f2b20"/>
                </a:solidFill>
                <a:latin typeface="Calibri"/>
              </a:rPr>
              <a:t>Giảm trương lực phó giao cảm  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3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f2b20"/>
                </a:solidFill>
                <a:latin typeface="Calibri"/>
              </a:rPr>
              <a:t>Thể tích tống máu 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13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f2b20"/>
                </a:solidFill>
                <a:latin typeface="Calibri"/>
              </a:rPr>
              <a:t>Ta8ng sớm </a:t>
            </a:r>
            <a:r>
              <a:rPr b="0" lang="fr-FR" sz="1700" spc="-1" strike="noStrike">
                <a:solidFill>
                  <a:srgbClr val="2f2b20"/>
                </a:solidFill>
                <a:latin typeface="Calibri"/>
                <a:ea typeface="Arial"/>
              </a:rPr>
              <a:t>(35%) 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13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f2b20"/>
                </a:solidFill>
                <a:latin typeface="Calibri"/>
                <a:ea typeface="Arial"/>
              </a:rPr>
              <a:t>Nguyên nhân  : tăng tuần hoàn trở về, giảm hậu gánh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f2b20"/>
                </a:solidFill>
                <a:latin typeface="Calibri"/>
              </a:rPr>
              <a:t>→ </a:t>
            </a:r>
            <a:r>
              <a:rPr b="0" lang="fr-FR" sz="1900" spc="-1" strike="noStrike">
                <a:solidFill>
                  <a:srgbClr val="2f2b20"/>
                </a:solidFill>
                <a:latin typeface="Calibri"/>
              </a:rPr>
              <a:t>hậu quả : tăng cung lượng tim thêm 50%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13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f2b20"/>
                </a:solidFill>
                <a:latin typeface="Calibri"/>
              </a:rPr>
              <a:t>Bắt đầu sớm từ tuần t5 và nhanh trong vòng 6 tháng đầu, sau đó tốc độ tăng chậm hơn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13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f2b20"/>
                </a:solidFill>
                <a:latin typeface="Calibri"/>
              </a:rPr>
              <a:t>Đủ tháng  +20-45%  (6-8 L/min)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13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f2b20"/>
                </a:solidFill>
                <a:latin typeface="Calibri"/>
                <a:ea typeface="Arial"/>
              </a:rPr>
              <a:t>Không có tăng chỉ số hoạt động của thất trái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3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13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57200" y="274680"/>
            <a:ext cx="793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Các thay đổi về tim mạch</a:t>
            </a:r>
            <a:endParaRPr b="0" lang="en-US" sz="4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  <a:ea typeface="Arial"/>
              </a:rPr>
              <a:t>Tác dụng của tư thế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  <a:ea typeface="Arial"/>
              </a:rPr>
              <a:t>Dấu hiệu của sốc khi nằm ngửa có ở 10% BN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  <a:ea typeface="Arial"/>
              </a:rPr>
              <a:t>Do chèn ép tĩnh mạch chủ dưới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  <a:ea typeface="Arial"/>
              </a:rPr>
              <a:t>Do phù chi dưới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  <a:ea typeface="Arial"/>
              </a:rPr>
              <a:t>Phát triển tuần hoàn bàng hệ qua các tĩnh mạch cạnh sống và tĩnh mạch ngoài màng cứ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  <a:ea typeface="Arial"/>
              </a:rPr>
              <a:t>Bù lại bằng tăng trương lực giao cảm ( co mạch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Phục hồi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  <a:ea typeface="Arial"/>
              </a:rPr>
              <a:t>Các giá trị TT, TA et VES sẽ phục hồi trong vòng 24h sau chuyển dạ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  <a:ea typeface="Arial"/>
              </a:rPr>
              <a:t>Các thay đổi tuần hoàn sẽ trở về bình thường trong 12-24 tuần sau khi sinh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457200" y="274680"/>
            <a:ext cx="793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Các thay đổi về tim mạch</a:t>
            </a:r>
            <a:endParaRPr b="0" lang="en-US" sz="4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5e47"/>
                </a:solidFill>
                <a:latin typeface="Cambria"/>
              </a:rPr>
              <a:t>Hội chứng chèn ép ĐMC và TMC dưới 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13" name="Picture 5" descr="http://images.slideplayer.fr/2/513702/slides/slide_17.jpg"/>
          <p:cNvPicPr/>
          <p:nvPr/>
        </p:nvPicPr>
        <p:blipFill>
          <a:blip r:embed="rId1"/>
          <a:srcRect l="9874" t="27535" r="5824" b="6778"/>
          <a:stretch/>
        </p:blipFill>
        <p:spPr>
          <a:xfrm>
            <a:off x="1116000" y="2205000"/>
            <a:ext cx="6407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5e47"/>
                </a:solidFill>
                <a:latin typeface="Cambria"/>
              </a:rPr>
              <a:t>Hội chứng chèn ép ĐMC và TMC dưới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3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Bắt đầu từ tuần  13-16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3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Giảm trở về tĩnh mạch và hậu gánh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3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rầm trọng thêm do tác dụng ức chế giao cảm khi tiến hành gây tê sợi trục thần kinh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Những thay đổi đường tiêu hóa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Ống tiêu hóa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Vị trí dạ dày thay đổi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Giảm trương lực cơ thắt tâm vị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Tăng thể tích và mức độ acid của dịch dạ dày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Giảm nhu động ( do tác dụng của progestérone và do chèn epp1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Tăng áp lực trong lòng dạ dà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  <a:ea typeface="Arial"/>
              </a:rPr>
              <a:t>Thay đổi quá trình làm rỗng dạ dà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Gan và đường mật Foie et voies biliair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↗ </a:t>
            </a: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cholestérol – triglycérid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↗ </a:t>
            </a: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sỏi mậ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  <a:ea typeface="Arial"/>
              </a:rPr>
              <a:t>Giảm nhu động của túi mật </a:t>
            </a:r>
            <a:r>
              <a:rPr b="0" lang="fr-FR" sz="20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2f2b20"/>
                </a:solidFill>
                <a:latin typeface="Calibri"/>
                <a:ea typeface="Arial"/>
              </a:rPr>
              <a:t> vàng da không tắc mậ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Ảnh hưởng lên gây mê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484280"/>
            <a:ext cx="8507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80% có trào ngược dạ dày thực quản thậm chí là viêm thực quản do dịch aci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↗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nguy cơ hít phải dịch dạ dày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ất cả phụ nữ có thai từ 3 tháng giữa trở lên đều được coi như dạ dày đầy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Chú ý nhịn ăn trước mổ và dùng thuốc giảm tiết acid dạ dà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→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ưu tiên lựa chọn gây tê vùng ở PN có thai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→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sử dụng khởi mê nhanh nếu cần gây mê toàn thâ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ay đổi về tụy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Kháng insulin tương đối cho đến lúc chuyển dạ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Sản xuất insulin tăng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ăng tiết hormon của bánh rau : lactogèn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Nếu dùng đường nhiều </a:t>
            </a:r>
            <a:r>
              <a:rPr b="0" lang="fr-FR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 tăng đường huyết, thuyên giảm sau 24 h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ăng nhu cầu chuyển hó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Giảm chịu đựng khi phải nhịn ă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Tăng toan acton ở những người trẻ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→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Nguy cơ = đái tháo đường thai nghé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Thay đổi về thậ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4920" y="1267920"/>
            <a:ext cx="8002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20088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ăng cung lượng tưới máu thận lên  50-85% (↗ do tăng thể tích máu và thể tích tâm thất phải 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01680" indent="-20088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ăng mức độ lọc cầu thận từ  40-65% (↘ áp lực thủy tĩnh 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01680" indent="-20088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↘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Créatinin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01680" indent="-20088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↗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ái hập thụ  Na / K tại ống thận → giữ muối và nước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01680" indent="-20088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Đường niệu không liên tục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01680" indent="-20088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Protein niệu dạng vết (↗ mực lọc , ↗  tính thấm,  ↘ tái hấp thụ 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01680" indent="-20088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↗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kích thước thận tăng 1 cm ( trở về trạng thái bình thường sau 6 tháng 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01680" indent="-20088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Nguy cơ giãn đài bể thận ( do tử cung chèn ép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  </a:t>
            </a: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Ảnh hưởng lên gây mê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60560"/>
            <a:ext cx="82296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ỉ lệ ứ động nước tiểu và nhiễm trùng đường niệu cao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Creatinine trong máu tăng  44-64 µmol/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Có đường niệu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Lên cân , có phần quan trọng do giữ nược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Do tình trạng quá giãn của các dây chằng và tình trạng giữ nước của mô mềm : khó làm thủ thuật đặc biệt là ngoài màng cứ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Đại cương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148428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f2b20"/>
                </a:solidFill>
                <a:latin typeface="Calibri"/>
              </a:rPr>
              <a:t>Thay đổi chuyển hóa đáp ứng với sự phát triển của tử cung và thai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Chuẩn bị cho quá trình chuyển dạ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9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Những thay đổi về hormon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Dược lí học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599840"/>
            <a:ext cx="8002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Hấp thụ dạ dày và ruột thay đổi ( tăng tốc độ, giảm mức độ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↘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Albumine (45 → 39 g/l) :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↘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Protide (78 → 70 g/l)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→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ỉ lệ thuốc dạng tự do tăng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Giảm áp lực thủy tĩnh ( đặc biệt là sau tuần 31 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→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hể tích phân bố tăng  →nồng độ thuốc giả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hanh thải qua thận tă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Hoạt tính của các enzyme gan thay đổi theo các mức độ khác nhau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Dược lí học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599840"/>
            <a:ext cx="8002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2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Hàng rào nhau thai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2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Chủ yếu theo cơ chế khuếch tán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2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Nhiều thuốc qua được rau thai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2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Theo cơ chế bẫy ion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20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Khác biệt giữa pH mẹ và pH thai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20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Thành phần protein khác nhau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ay đổi về máu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77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òng hồng cầu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5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↗ </a:t>
            </a: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nguyên bào  ↗  hồng cầu lưới , tăng  Erythropoiétine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→ </a:t>
            </a: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thường gặp thiếu máu thiếu sắ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Dòng bạch cầu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5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↗ </a:t>
            </a: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bạch cầu đa nhân trung tính, nhưng tính biệt hóa và khả năng kết dính có thay đổi  (↗ nhiễm khuẩn  ?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iểu cầu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5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Định nghĩa giảm tiểu cầu khi &lt; 115 000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Thay đổi về máu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599840"/>
            <a:ext cx="8002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↗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yếu tố đông máu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↘  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các yếu tố kháng đông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151280" indent="-205560">
              <a:lnSpc>
                <a:spcPct val="150000"/>
              </a:lnSpc>
              <a:spcBef>
                <a:spcPts val="40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f2b20"/>
                </a:solidFill>
                <a:latin typeface="Calibri"/>
              </a:rPr>
              <a:t>↘ </a:t>
            </a:r>
            <a:r>
              <a:rPr b="0" lang="fr-FR" sz="1600" spc="-1" strike="noStrike">
                <a:solidFill>
                  <a:srgbClr val="2f2b20"/>
                </a:solidFill>
                <a:latin typeface="Calibri"/>
              </a:rPr>
              <a:t>hoạt tính  protéine S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3" marL="1151280" indent="-205560">
              <a:lnSpc>
                <a:spcPct val="150000"/>
              </a:lnSpc>
              <a:spcBef>
                <a:spcPts val="40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f2b20"/>
                </a:solidFill>
                <a:latin typeface="Calibri"/>
              </a:rPr>
              <a:t>Có hiện tượng kháng lại  protéine C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↘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iêu sợi huyế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Vrfv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→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có tình trạng tăng đông ( từ 3 tháng đầu  +++), có liên quan đến oestroge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→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Nguy cơ hình thành huyết khối tăng  4-10 (kéo dài cho đến 6 tuần sau đẻ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5e47"/>
                </a:solidFill>
                <a:latin typeface="Cambria"/>
              </a:rPr>
              <a:t>Bệnh huyết khối tĩnh mạch sâu và thai kì 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3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hai nghén là yếu tố nguy cơ của huyết khối tĩnh mạch sâu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30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Tăng 5 lần nguy cơ so với người bình thườn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30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Yếu tố cơ học ( tử cung chèn ép 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30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Yếu tố sinh học ( thay đổi đông máu trong quá trình mang thai)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30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Nguy cơ cao nhất trong những ngày sau đẻ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30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75e47"/>
                </a:solidFill>
                <a:latin typeface="Cambria"/>
              </a:rPr>
              <a:t>Bệnh lí tăng đông và quá trình thai nghén 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Chẩn đoán bệnh tăng đông  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lnSpc>
                <a:spcPct val="150000"/>
              </a:lnSpc>
              <a:spcBef>
                <a:spcPts val="300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5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49a0a"/>
                </a:solidFill>
                <a:latin typeface="Calibri"/>
              </a:rPr>
              <a:t>Tiền sử gia đình hoặc cá nhân có </a:t>
            </a: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 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15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Huyết khối tĩnh mạch sâu tái phát , xuất hiện trước 45 tuổi, ở những VT bất thường ( ngoài chi dưới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v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5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Có ít nhất 1 yếu tố di truyền có nguy cơ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15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Thiếu  antithrombin, Protein C, Protein S, yếu tố  V Leiden, yếu tố  II 20210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Nếu không : bệnh huyết khối tĩnh mạch sâu vô căn hay mắc phải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675e47"/>
                </a:solidFill>
                <a:latin typeface="Cambria"/>
              </a:rPr>
              <a:t>Bệnh lí tăng đông và quá trình thai nghén 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Yếu tố nguy cơ của bệnh huyết khối tĩnh mạch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15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Thai nghén, đa thai, nuôi con sữa mẹ kéo dài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15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Mổ đẻ cấp cứu, tiền sản giật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15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Tuổi  &gt; 35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15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Béo phì ( BMI &gt; 30, cân nặng &gt; 80Kg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15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tăng huyết áp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15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Giãn tĩnh mạch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15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Các yếu tố sinh học ko kèm theo tiền sử gia đìn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15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Tiền sử có huyết khối tĩnh mạch sâu ko phát hiện yếu tố khởi phát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75e47"/>
                </a:solidFill>
                <a:latin typeface="Cambria"/>
              </a:rPr>
              <a:t>Bệnh lí tăng đông và quá trình thai nghé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50920" y="1555920"/>
            <a:ext cx="868680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Bắt đầu từ xác định nhóm yếu tố nguy cơ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Nguy cơ thấp  :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lnSpc>
                <a:spcPct val="90000"/>
              </a:lnSpc>
              <a:spcBef>
                <a:spcPts val="400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f2b20"/>
                </a:solidFill>
                <a:latin typeface="Calibri"/>
              </a:rPr>
              <a:t>Không điều trị trong suốt quá trình thai nghén và sau đẻ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lnSpc>
                <a:spcPct val="90000"/>
              </a:lnSpc>
              <a:spcBef>
                <a:spcPts val="300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Nguy cơ trung bình  :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lnSpc>
                <a:spcPct val="90000"/>
              </a:lnSpc>
              <a:spcBef>
                <a:spcPts val="400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f2b20"/>
                </a:solidFill>
                <a:latin typeface="Calibri"/>
              </a:rPr>
              <a:t>Không điều trị trong quá trình mang thai 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lnSpc>
                <a:spcPct val="90000"/>
              </a:lnSpc>
              <a:spcBef>
                <a:spcPts val="400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f2b20"/>
                </a:solidFill>
                <a:latin typeface="Calibri"/>
              </a:rPr>
              <a:t>Điều trị dự phòng heparin trọng lượng phân tử thấp , liều cao, trong vòng 4-6 tuần sau đẻ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Nguy cơ cao :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lnSpc>
                <a:spcPct val="90000"/>
              </a:lnSpc>
              <a:spcBef>
                <a:spcPts val="400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f2b20"/>
                </a:solidFill>
                <a:latin typeface="Calibri"/>
              </a:rPr>
              <a:t>Bắt đầu dự phòng từ 3 tháng cuối, dùng heparin trọng lượng phân tử thấp, liều cao Lovenox</a:t>
            </a: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® 4000UI/j) cho đến </a:t>
            </a:r>
            <a:r>
              <a:rPr b="0" lang="fr-FR" sz="1600" spc="-1" strike="noStrike">
                <a:solidFill>
                  <a:srgbClr val="2f2b20"/>
                </a:solidFill>
                <a:latin typeface="Calibri"/>
              </a:rPr>
              <a:t> 6-8 tuần sau đẻ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lnSpc>
                <a:spcPct val="90000"/>
              </a:lnSpc>
              <a:spcBef>
                <a:spcPts val="300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Nguy cơ rất cao :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lnSpc>
                <a:spcPct val="90000"/>
              </a:lnSpc>
              <a:spcBef>
                <a:spcPts val="400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f2b20"/>
                </a:solidFill>
                <a:latin typeface="Calibri"/>
              </a:rPr>
              <a:t>Dùng heparin không  phân đoạn liều đều trị trong 3 tháng đầu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lnSpc>
                <a:spcPct val="90000"/>
              </a:lnSpc>
              <a:spcBef>
                <a:spcPts val="400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f2b20"/>
                </a:solidFill>
                <a:latin typeface="Calibri"/>
              </a:rPr>
              <a:t>Sau đó bằng heparin trọng lượng phân tử thấp, liều điều trị trong  2- 3 tháng tiếp theo 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lnSpc>
                <a:spcPct val="90000"/>
              </a:lnSpc>
              <a:spcBef>
                <a:spcPts val="400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f2b20"/>
                </a:solidFill>
                <a:latin typeface="Calibri"/>
              </a:rPr>
              <a:t>Sau đó dùng kháng vitamin K trong vòng ít nhất 3 tháng sau đẻ  ( không có khuyến cáo cho việc dùng thuốc kháng vitamin K cho phụ nữ nuôi con bằng sữa mẹ)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rung bình / cao/ rất cao : dùng tất chống huyết khối + dừng hút thuốc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lnSpc>
                <a:spcPct val="90000"/>
              </a:lnSpc>
              <a:spcBef>
                <a:spcPts val="34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Nguy cơ tăng đô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412640"/>
            <a:ext cx="8578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Nguy cơ cao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Huyết khối tĩnh mạch sâu điều trị bằng thuốc chống đông trước khi mang thai và có bệnh tăng đôn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Thiếu hụt antithrombine có triệu chứng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Hội chứng kháng anti- phospholipides ( có triệu chứng lâm sàng và xét nghiệm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Có triệu chứng  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Nhóm có nguy cơ cao hay rất cao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66480" indent="-226080">
              <a:spcBef>
                <a:spcPts val="451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Nguy cơ tắc mạch rau thai</a:t>
            </a:r>
            <a:r>
              <a:rPr b="0" lang="fr-FR" sz="18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 bệnh lí bánh rau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4" marL="1538280" indent="-226080">
              <a:spcBef>
                <a:spcPts val="451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ảy thai sớm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4" marL="1538280" indent="-226080">
              <a:spcBef>
                <a:spcPts val="451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hai chậm phát triển trong tử cung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4" marL="1538280" indent="-226080">
              <a:spcBef>
                <a:spcPts val="451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hai chết lưu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4" marL="1538280" indent="-226080">
              <a:spcBef>
                <a:spcPts val="451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Nhiễm độc thai nghén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3" marL="1266480" indent="-226080">
              <a:spcBef>
                <a:spcPts val="451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Nguy cơ hình thành huyết khối tĩnh mạch sâu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→ </a:t>
            </a: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Do vậy, thai phụ này cần được theo dõi thai nghen chặt chẽ và có thể được điều trị thuốc chống đông sớm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Các thay đổi về vận độ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2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↗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giãn xương khớp  (cơ chế ???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ăng hội chứng ống cổ t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Cột sống ưỡn ra trước 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2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Đau sống lưng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2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Giãn thần kinh bì đùi ( giảm cảm giác mắt trước ngoài của đùi 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Cân nặng và chuyển hóa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2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B tăng 17% trọng lượng cơ thể ( khoảng  12 kg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ăng tiêu thụ năng lượ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2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Tăng chuyển hóa ( bánh rau, thai, tử cung , tuyến vú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20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Tăng hoạt động các hệ thống tim, thận, hô hấp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ăng tiêu thụ oxy lên 15%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Thay đổi thần kinh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2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↗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ăng ngưỡng đau do tăng sản xuất các chất giảm đau nội sinh (endorphines, enképhalines…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↗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ăng nhạy cảm với thuốc mê  (progestéron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↘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nhu cầu thuốc tê tại chỗ giảm  – 30%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↗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rương lực giao cảm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↘  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rương lục phó giao cảm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Ảnh hưởng đến gây mê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599840"/>
            <a:ext cx="7753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Phụ nữ có thai = mẹ + thai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Hội chứng chèn ép động mạch – tĩnh mạch chủ dưới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Nguy cơ nội khí quản khó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Nguy cơ dạ dày đầy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hể tích cặn chức năng giảm và thông khí phú giảm </a:t>
            </a:r>
            <a:r>
              <a:rPr b="0" lang="fr-FR" sz="22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 khởi mê bằng khí mê có tác dụng nhanh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Đáp ứng với ngừng thở kém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aCO2 sinh lí thấp = 30 mmH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Ảnh hưởng đến gây mê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599840"/>
            <a:ext cx="7753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2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huốc mê và họ morphin có thể qua được rau thai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ác thuốc giãn cơ rất ít qua rau thai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Cột sống ưỡn ra trước, giãn căng làm gây tê ngoài màng cứng trở nên khó khăn hơ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Giảm liều của các thuốc gây tê phải giảm liều 25-30%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Bánh rau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816200"/>
            <a:ext cx="79311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15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Có nguồn gốc từ thai 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5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Cơ quan tiết ra các enzyme và horm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5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Đóng vai trò là phổi – thận – ruột của thai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5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Là 1 hàng rào bán phần giữa tuần hoàn mẹ và tuần hoàn c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5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Có hiện tượng tắc mạch trong lòng mạch «  sinh lí 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→ </a:t>
            </a: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tất cả các th thiếu máu bánh rau đều ảnh hưởng đến thai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5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5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23640" y="1988640"/>
            <a:ext cx="78483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Tuần hoàn tử cung rau  = 10-12% cung lượng tim của mẹ (700 -900mL/min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Cung lượng tử cung rau = 70-90% hồ máu , 10-30% cho lớp đáy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2b20"/>
                </a:solidFill>
                <a:latin typeface="Calibri"/>
              </a:rPr>
              <a:t>Cơ chế tự điều hòa của tuần hoàn tử cung rau không tồn tại vào giai đoạn cuối của thai kì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Bánh rau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42920" y="1484280"/>
            <a:ext cx="8174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3 tham số ảh hưởng đến thay đổi tuần hoàn tử cung rau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49a0a"/>
                </a:solidFill>
                <a:latin typeface="Calibri"/>
              </a:rPr>
              <a:t>Tụt huyết áp đm tử cung </a:t>
            </a: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Do chèn ép động mạch chủ - tm chủ dưới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o ức chế giao cảm, thiếu thể tích tuần hoàn, chảy máu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ác thuốc làm giảm huyết áp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49a0a"/>
                </a:solidFill>
                <a:latin typeface="Calibri"/>
              </a:rPr>
              <a:t>Tăng áp lực tĩnh mạch tử cu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Co bóp tử cung, tăng trương lực cơ tủ cu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 giật, phản xa valsav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49a0a"/>
                </a:solidFill>
                <a:latin typeface="Calibri"/>
              </a:rPr>
              <a:t>Tăng sức cản mạch tử cu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Tăng huyết áp, tăng cathecholamin ( do đau ) Vasopressin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Các loại thuốc gây co mạch : Adrénaline, phényléphrine&gt;Ephedrine, cá thuốc gây tê tại chỗ liều cao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Bánh rau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Hậu quả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77560" y="1600200"/>
            <a:ext cx="7823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Ất cả các thay đổi huyết áp tưới máu tử cung có thể ảnh hưởng đến sự trao đổi của thai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ây mê toàn thân làm giảm hoặc ảnh ưởng ít đến tuần hoàn tử cung thai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5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Chú ý  đến suy thai cấp hay tiền sản giật 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5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Penthotal : giảm tuần hoàn tử cung rau /đáp ứng giao / đặt ố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5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  <a:ea typeface="Arial"/>
              </a:rPr>
              <a:t>Propofol, Kétamine, Halogénés (MAC&lt;1.5) : không có gì thay đổi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15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  <a:ea typeface="Arial"/>
              </a:rPr>
              <a:t>Gây tê vùng là phương pháp duy thất có khả năng làm tăng cung lượng máu tử cung – ray và cải thiện sự trao đổi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Kết luận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8686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3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Tất cả các hệ cơ quan đều thay đổi trong quá trình mang thai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3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Ảnh hưởng đến thực hành gây mê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3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Tôn trọng nguyên tắc cơ bản là đảm bảo an toàn cho cả mẹ và thai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75e47"/>
                </a:solidFill>
                <a:latin typeface="Cambria"/>
              </a:rPr>
              <a:t>Những thay đổi hô hấp  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Các thay đổi giải phẫu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2f2b20"/>
                </a:solidFill>
                <a:uFillTx/>
                <a:latin typeface="Calibri"/>
              </a:rPr>
              <a:t>Đường hô hấp trê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2f2b20"/>
                </a:solidFill>
                <a:uFillTx/>
                <a:latin typeface="Calibri"/>
              </a:rPr>
              <a:t>Phù niêm mạc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3" marL="10508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f2b20"/>
                </a:solidFill>
                <a:latin typeface="Calibri"/>
              </a:rPr>
              <a:t>→ </a:t>
            </a:r>
            <a:r>
              <a:rPr b="0" lang="fr-FR" sz="1600" spc="-1" strike="noStrike">
                <a:solidFill>
                  <a:srgbClr val="2f2b20"/>
                </a:solidFill>
                <a:latin typeface="Calibri"/>
              </a:rPr>
              <a:t>Tăng 8 lần nguy cơ đặt NKQ khó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3" marL="10508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f2b20"/>
                </a:solidFill>
                <a:latin typeface="Calibri"/>
              </a:rPr>
              <a:t>→ </a:t>
            </a:r>
            <a:r>
              <a:rPr b="0" lang="fr-FR" sz="1600" spc="-1" strike="noStrike">
                <a:solidFill>
                  <a:srgbClr val="2f2b20"/>
                </a:solidFill>
                <a:latin typeface="Calibri"/>
              </a:rPr>
              <a:t>Tăng lượng BN có Mallampati IV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2f2b20"/>
                </a:solidFill>
                <a:uFillTx/>
                <a:latin typeface="Calibri"/>
              </a:rPr>
              <a:t>Tăng sinh mạch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: niêm mạc dễ bị tổn thương và dễ chảy máu khi đặt NKQ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2f2b20"/>
                </a:solidFill>
                <a:uFillTx/>
                <a:latin typeface="Calibri"/>
              </a:rPr>
              <a:t>Ngực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2f2b20"/>
                </a:solidFill>
                <a:uFillTx/>
                <a:latin typeface="Calibri"/>
              </a:rPr>
              <a:t>Giãn phế nang 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(progestérone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  <a:ea typeface="Arial"/>
              </a:rPr>
              <a:t>Cơ hoành lên cao  4 cm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Các xương sườn nằm ngan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  <a:ea typeface="Arial"/>
              </a:rPr>
              <a:t>Động tác hít vào dựa chủ yếu vào hoạt động cơ hoành ( ít có sự giãn nở lồng ngực )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Tuyến vú phát triển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  <a:ea typeface="Arial"/>
              </a:rPr>
              <a:t>  ( dùng đèn NKQ có tay cầm ngắ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→</a:t>
            </a:r>
            <a:r>
              <a:rPr b="0" lang="fr-FR" sz="1800" spc="-1" strike="noStrike">
                <a:solidFill>
                  <a:srgbClr val="2f2b20"/>
                </a:solidFill>
                <a:latin typeface="Calibri"/>
              </a:rPr>
              <a:t>các thay đổi về thể tích hô hấp tồn tại đến 3 tuần sau đẻ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75e47"/>
                </a:solidFill>
                <a:latin typeface="Cambria"/>
              </a:rPr>
              <a:t>Những thay đổi hô hấp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96" name="Picture 9" descr="RespiGss2005"/>
          <p:cNvPicPr/>
          <p:nvPr/>
        </p:nvPicPr>
        <p:blipFill>
          <a:blip r:embed="rId1"/>
          <a:stretch/>
        </p:blipFill>
        <p:spPr>
          <a:xfrm>
            <a:off x="179280" y="1268280"/>
            <a:ext cx="4897440" cy="5185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03280" y="1628280"/>
            <a:ext cx="403884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↑ </a:t>
            </a: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dung tích sống +30-40%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↑ </a:t>
            </a: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nhịp thở +15%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↑ </a:t>
            </a: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thông khí phế nang (+70%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  <a:ea typeface="Arial"/>
              </a:rPr>
              <a:t>↓</a:t>
            </a: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thể tích dự trữ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↓ </a:t>
            </a:r>
            <a:r>
              <a:rPr b="0" lang="fr-FR" sz="2400" spc="-1" strike="noStrike">
                <a:solidFill>
                  <a:srgbClr val="2f2b20"/>
                </a:solidFill>
                <a:latin typeface="Calibri"/>
              </a:rPr>
              <a:t>thể tích cặn chức năng-20%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75e47"/>
                </a:solidFill>
                <a:latin typeface="Cambria"/>
              </a:rPr>
              <a:t>Những thay đổi hô hấp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075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4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ăng tiêu thụ oxy  (+20%), tăng gấp 3 lần nếu là chuyển dạ đường dưới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4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Giảm dự trữ oxy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4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ăng phân áp oxy máu  PaO2 (105 mmHg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4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Đường cong phân li dịch chuyển sang phải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4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Nhược thán có tác dụng co mạch (27-34 mmHg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→</a:t>
            </a: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kiềm hô hấp có thể bù 1 phần hoàn toàn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4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Cung lượng khí thở ra khoảng 10%Débit inspiratoire diminué de 10% (pas de modifications du débit expiratoir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4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Hậu quả trên hô hấp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2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Xẹp phổi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hiếu oxy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Khó thở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Khởi mê bằng khí mê nhanh hơn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0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Tạo thuật cho quá trình giải phóng oxy ở rau – thai ( trừ trường hợp bệnh lí 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5e47"/>
                </a:solidFill>
                <a:latin typeface="Cambria"/>
              </a:rPr>
              <a:t>Ảnh hưởng trên gây mê 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72840" y="1922040"/>
            <a:ext cx="793116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2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Động tác nhẹ nhàng để tránh chảy máu hầu  họ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</a:rPr>
              <a:t>Nguy cơ đặt NKQ khó do có phù nề đường hô hấp trê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  <a:ea typeface="Arial"/>
              </a:rPr>
              <a:t>Chú trọng thông khí + và CO2 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25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f2b20"/>
                </a:solidFill>
                <a:latin typeface="Calibri"/>
                <a:ea typeface="Arial"/>
              </a:rPr>
              <a:t>Lợi ích của gây tê ngoài màng cứng trong chuyển dạ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75e47"/>
                </a:solidFill>
                <a:latin typeface="Cambria"/>
              </a:rPr>
              <a:t>Các thay đổi về tim mạch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Giảm sức cản hệ thống   → giảm huyết áp động mạch  6-10 mmH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f2b20"/>
                </a:solidFill>
                <a:latin typeface="Calibri"/>
              </a:rPr>
              <a:t>Bắt đầu giảm sớm từ tuần  5-6 , có thể giảm đến  30%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f2b20"/>
                </a:solidFill>
                <a:latin typeface="Calibri"/>
              </a:rPr>
              <a:t>Giảm sức cản động mạch  &gt; giảm sức cản tĩnh mạch 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f2b20"/>
                </a:solidFill>
                <a:latin typeface="Calibri"/>
              </a:rPr>
              <a:t>Cơ chế chưa rõ ràng : </a:t>
            </a:r>
            <a:r>
              <a:rPr b="0" lang="fr-FR" sz="1900" spc="-1" strike="noStrike">
                <a:solidFill>
                  <a:srgbClr val="2f2b20"/>
                </a:solidFill>
                <a:latin typeface="Calibri"/>
                <a:ea typeface="Arial"/>
              </a:rPr>
              <a:t>tăng tuần hoàn tử cung, giãn mạch do ảnh hưởng của các hormon :</a:t>
            </a:r>
            <a:r>
              <a:rPr b="0" lang="fr-FR" sz="1900" spc="-1" strike="noStrike">
                <a:solidFill>
                  <a:srgbClr val="2f2b20"/>
                </a:solidFill>
                <a:latin typeface="Calibri"/>
              </a:rPr>
              <a:t> prostaglandines &amp; NO (do rau thai tiết ra 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f2b20"/>
                </a:solidFill>
                <a:latin typeface="Calibri"/>
              </a:rPr>
              <a:t>Giảm huyết áp tâm trương  20%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f2b20"/>
                </a:solidFill>
                <a:latin typeface="Calibri"/>
              </a:rPr>
              <a:t>Thời gian hồi phục sau đẻ thay đổi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f2b20"/>
                </a:solidFill>
                <a:latin typeface="Calibri"/>
              </a:rPr>
              <a:t>Không có sự thay đổi áp lực động mạch phổi 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f2b20"/>
                </a:solidFill>
                <a:latin typeface="Calibri"/>
              </a:rPr>
              <a:t>Thể tích tuần hoàn Volume sangui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f2b20"/>
                </a:solidFill>
                <a:latin typeface="Calibri"/>
              </a:rPr>
              <a:t>Bắt đầu tăng từ tuần 4-5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f2b20"/>
                </a:solidFill>
                <a:latin typeface="Calibri"/>
              </a:rPr>
              <a:t>Đến đủ tháng tăng 45% (+67% nếu là song thai 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f2b20"/>
                </a:solidFill>
                <a:latin typeface="Calibri"/>
              </a:rPr>
              <a:t>Cơ chế : 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25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f2b20"/>
                </a:solidFill>
                <a:latin typeface="Calibri"/>
              </a:rPr>
              <a:t>Kích thích hệ thống  rénine-angiotensine-aldostérone do tác dụng oestrogènes, 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25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f2b20"/>
                </a:solidFill>
                <a:latin typeface="Calibri"/>
              </a:rPr>
              <a:t>Giãn mạch 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25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f2b20"/>
                </a:solidFill>
                <a:latin typeface="Calibri"/>
              </a:rPr>
              <a:t>ADH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76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f2b20"/>
                </a:solidFill>
                <a:latin typeface="Calibri"/>
              </a:rPr>
              <a:t>Trung bình : 7000ml nước 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12:55:29Z</dcterms:created>
  <dc:creator>lambda</dc:creator>
  <dc:description/>
  <dc:language>en-US</dc:language>
  <cp:lastModifiedBy>thuy chi phan</cp:lastModifiedBy>
  <dcterms:modified xsi:type="dcterms:W3CDTF">2014-10-16T15:13:45Z</dcterms:modified>
  <cp:revision>193</cp:revision>
  <dc:subject/>
  <dc:title>Diapositive 1</dc:title>
</cp:coreProperties>
</file>