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0A50-BD76-49EC-A665-AB496246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63EE-D8BB-4F8B-A5F4-C0E78ED0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DD66-908A-42A7-B412-E72F268C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FD82-6AA4-4EDA-B2DF-BFD5349F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C2F2-AD0A-4BFF-BC2D-FB41CA4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744A-00AA-427E-A7CB-7B165D13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D883-6BF7-4836-9911-63F4464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E6AC-2366-4E7E-AAD0-E5839D1F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D490-361B-4A95-915C-421AF7A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C212-ABA6-46A9-A082-D771624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B073-D24A-4150-974D-2A82FF7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0568-2CE6-4688-8FF3-211A6B4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D0D2-AB77-47B3-960E-88B9F28AE39B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Thai và chuyển dạ bình thường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11200" y="5445000"/>
            <a:ext cx="64008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8d8c"/>
                </a:solidFill>
                <a:latin typeface="Calibri"/>
              </a:rPr>
              <a:t>Docteur Aurélie Goue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8d8c"/>
                </a:solidFill>
                <a:latin typeface="Calibri"/>
              </a:rPr>
              <a:t>Hôpital Bichat-Claude Bernard, Paris, Fran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Picture 5" descr="j0294933"/>
          <p:cNvPicPr/>
          <p:nvPr/>
        </p:nvPicPr>
        <p:blipFill>
          <a:blip r:embed="rId1"/>
          <a:stretch/>
        </p:blipFill>
        <p:spPr>
          <a:xfrm>
            <a:off x="1042920" y="4653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Giai đoạn 1  = giãn cổ tử cung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2f2b20"/>
                </a:solidFill>
                <a:uFillTx/>
                <a:latin typeface="Calibri"/>
              </a:rPr>
              <a:t>Courbe de dilatation de Friedma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(Friedman et al, Clin Obstet Gynecol 1973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2467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Giai đoạn 1  = giãn cổ tử cu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3835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Giai đoạn 1  = giãn cổ tử cu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8388360" cy="392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2f2b20"/>
                </a:solidFill>
                <a:uFillTx/>
                <a:latin typeface="Calibri"/>
              </a:rPr>
              <a:t>Progression de la présentation et de la dilat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(Friedman et al, Clin Obstet Gynecol 1973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iai đoạn 2: 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rcRect l="0" t="0" r="1871" b="0"/>
          <a:stretch/>
        </p:blipFill>
        <p:spPr>
          <a:xfrm>
            <a:off x="0" y="2205000"/>
            <a:ext cx="8459640" cy="37116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3"/>
          <p:cNvSpPr/>
          <p:nvPr/>
        </p:nvSpPr>
        <p:spPr>
          <a:xfrm>
            <a:off x="539640" y="1700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= lọt qua eo trên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Giai đoạn 2 : xuống + xoay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240" y="2432160"/>
            <a:ext cx="84294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iai đoạn 2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447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Lọ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Xuống và xoa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ổ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àn chậu căng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En OP++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Déflex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Périnée post distendu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Dégagement de la tête en monta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Restitution de la tê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Dégagement des épaules et du corp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471920" y="363600"/>
            <a:ext cx="40006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Giai đoạn 3  = sổ ra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2b20"/>
                </a:solidFill>
                <a:latin typeface="Calibri"/>
              </a:rPr>
              <a:t>Giai đoạn nguy hiểm nhất đối với mẹ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2b20"/>
                </a:solidFill>
                <a:latin typeface="Calibri"/>
              </a:rPr>
              <a:t>Giai đoạn nghỉ: 10-15 phú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ơn co tử cung biến mấ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Không chảy máu, tử cung đóng, co hồ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2b20"/>
                </a:solidFill>
                <a:latin typeface="Calibri"/>
              </a:rPr>
              <a:t>Sổ rau được chia 3 giai đoạn 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f2b20"/>
                </a:solidFill>
                <a:latin typeface="Calibri"/>
              </a:rPr>
              <a:t>Bong rau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f2b20"/>
                </a:solidFill>
                <a:latin typeface="Calibri"/>
              </a:rPr>
              <a:t>Hình thành khối máu tụ sau rau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2b20"/>
                </a:solidFill>
                <a:latin typeface="Calibri"/>
              </a:rPr>
              <a:t>Cơn co tử cung xuất hiện lại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ổ rau ra ngoà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2b20"/>
                </a:solidFill>
                <a:latin typeface="Calibri"/>
              </a:rPr>
              <a:t>Do co tử cung và do tác dụng trọng lực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ầm máu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f2b20"/>
                </a:solidFill>
                <a:latin typeface="Calibri"/>
              </a:rPr>
              <a:t>Vai trò của co hồi tử cung </a:t>
            </a:r>
            <a:r>
              <a:rPr b="0" i="1" lang="fr-FR" sz="18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2f2b20"/>
                </a:solidFill>
                <a:latin typeface="Calibri"/>
              </a:rPr>
              <a:t> cầu an toàn tử cun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2b20"/>
                </a:solidFill>
                <a:latin typeface="Calibri"/>
              </a:rPr>
              <a:t>Sau đó là quá trình đông máu sinh họ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ff0000"/>
                </a:solidFill>
                <a:uFillTx/>
                <a:latin typeface="Calibri"/>
              </a:rPr>
              <a:t>Giai đoạn sổ rau không được kéo dài quá 30 phú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Thai 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Thai và chuyển dạ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936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Nhịp tim thai bình thường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Giao động 5-10 nhịp/ p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ó đáp ứng – nhịp tă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Nằm trong khoảng 120-140 nhịp/ p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936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Nhịp tim thai bệnh lí  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im nhan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m chậ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ao động sớ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ậm dầ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hông có phản ứ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ẳ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5" name="Picture 7" descr="ERCF Cornet"/>
          <p:cNvPicPr/>
          <p:nvPr/>
        </p:nvPicPr>
        <p:blipFill>
          <a:blip r:embed="rId1"/>
          <a:stretch/>
        </p:blipFill>
        <p:spPr>
          <a:xfrm>
            <a:off x="1042920" y="5013360"/>
            <a:ext cx="316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Tim thai bình thường  = biểu đồ chuyển dạ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7" name="Picture 4" descr="monitoring%20foetal%202"/>
          <p:cNvPicPr/>
          <p:nvPr/>
        </p:nvPicPr>
        <p:blipFill>
          <a:blip r:embed="rId1"/>
          <a:stretch/>
        </p:blipFill>
        <p:spPr>
          <a:xfrm>
            <a:off x="971640" y="1844640"/>
            <a:ext cx="6553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Sinh lí quá trình chuyển dạ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an đoạn 1 : cổ tử cung giãn nở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ai đoạn 2:  :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Lọ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Xuống và xoay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ổ thai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ai đoạn 3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ổ bánh rau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Fœtus &amp; Travai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980640"/>
            <a:ext cx="76201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hai và quá trình chuyển dạ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2f2b20"/>
                </a:solidFill>
                <a:uFillTx/>
                <a:latin typeface="Calibri"/>
              </a:rPr>
              <a:t>STAN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 : ghi và phân tích điện tâm đồ của thai, những thay đổi của QT </a:t>
            </a:r>
            <a:r>
              <a:rPr b="0" lang="fr-FR" sz="24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  vấn đề của tha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2f2b20"/>
                </a:solidFill>
                <a:uFillTx/>
                <a:latin typeface="Calibri"/>
              </a:rPr>
              <a:t>Bão hòa của thai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: đặt đầu theo dõi spO2 lên má của thai ( giá trị bình thường 40%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141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Kết quả sinh lí bệnh học của quá trình chuyển dạ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rong chuyển dạ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ng cơn co tử cu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ng lượng tim tăng 20 – 30% do tăng đau và do co bóp của tử cu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ăng huyết áp động mạch 20 – 30 mmH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ăng hoạt động thất trá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guy cơ dẫn đến mất bù của 1 bệnh tim còn bù trong suốt thai kì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Ảnh hưởng đến huyết độ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00" y="1412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Ít có đáp ứng với gắng sức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ảm tưới máu tử cung ra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ụt huyết áp động mạch tử cu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+ do tụt huyết áp toàn thâ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+ do chèn ép đm chủ và tĩnh mạch chủ dưới, hoặc do co thắt động mạch – - do tăng áp lực tĩnh mạch chủ dưới, hội chứng chèn ép đm chủ - tĩnh mạch chủ , do co thắt tử cung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-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- Do tăng sức cản hệ thống mạch tử cu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có nguy cơ ảnh hưởng đến thai và giảm co cơ tử cung ( tần số và cường độ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y đổi về má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8840" y="1700280"/>
            <a:ext cx="7967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↗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thể tích tuần hoàn mẹ  35-45% (giá trị tuyệt đối 1L-1.5L 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↗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thể tích huyết tương  (+50%) liên quan đến thai và trường hợp đẻ được nhiều lần  corrélé au fœtus et à la multiparité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↗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tăng khối lượng TB dòng hồng cầu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Thiếu máu sinh lí trong quá trình mang thai (Hte &gt; 33%, Hb &gt; 110 g/L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Chú ý: tất cả các TH Hct &lt; 30% được coi là bất thường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y đổi về má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ăng đông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Fibrinogène,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ác yếu tố  VII VIII X XI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yếu tố  Willebrand +++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ảm đề kháng  Protéine C hoạt hóa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[kéo dài  4-6 tuần sau khi sinh ]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Giảm tiêu sợi huyế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nồng độ chất ức chế các tác nhân hoạt hóa fibrino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8% giảm tiểu cầu mức độ TB (97-150G/L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ậu quả sinh lí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1815840"/>
            <a:ext cx="79200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Những thay đổi này cho phép chuẩn bị cho hiện tượng chảy máu khi sinh và khi sổ rau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ăng nguy cơ hình thành huyết khối và tắc mạch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ăng nguy cơ phù phổi cấp nếu có bệnh lí kèm theo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Ảnh hưởng đến gây mê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28280"/>
            <a:ext cx="8002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Phòng ngừa hiệu ứng  Poseiro khi thực hiện các kĩ thuật gây mê 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ruyền dịch và ức chế hệ phó giao cảm: hạn chế tụt huyết áp khi tiến hành gây tê vù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  <a:ea typeface="Arial"/>
              </a:rPr>
              <a:t>Hiện tượng ữ máu tĩnh mạch ngoài màng cứng làm giảm 40 % thể tích phân phối của thuốc tê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  <a:ea typeface="Arial"/>
              </a:rPr>
              <a:t>giảm 1/ 3 liều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  <a:ea typeface="Arial"/>
              </a:rPr>
              <a:t>Không tê khi chó cơn co tử cung, dễ chọc phải tĩnh mạch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91628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hay đổi nồng độ thuốc dạng tự do: giảm liều đến 40%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hỉ định rộng rãi của các thuốc chống đông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ẩn thận khi  bù dịch nếu có tiền sử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Ảnh hưởng đến gây mê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75e47"/>
                </a:solidFill>
                <a:latin typeface="Cambria"/>
              </a:rPr>
              <a:t>Kết luậ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47840"/>
            <a:ext cx="7570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hay đổi tất cả các chức năng quan trọng trong quá trình mang thai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ó ảnh hưởng đến thực hành gây mê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uân thủ theo nguyên tắc đơn giản là đảm bảo an toàn cho mẹ và cho thai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Bắt đầu chuyển dạ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Bắt đầu chuyển dạ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ử cung co bóp và gây đa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ay đổi của cổ tử cung : xóa và mở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+/- vỡ ố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uyển dạ đẻ khó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ơn co bóp tử cung mạnh và đều đặ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Không có sự thay đổi của cổ tử cu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Vào việ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ả chuyển dạ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ơn co tử cung ko đều, ít mạnh,  có khi mờ nhạ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ử cung không thay đổ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Không có vỡ ố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4804" t="4132" r="3126" b="0"/>
          <a:stretch/>
        </p:blipFill>
        <p:spPr>
          <a:xfrm>
            <a:off x="4044960" y="609480"/>
            <a:ext cx="435132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huyển dạ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ai, kích thước  thay đổ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ử cung có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ân tử cung = co bó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Đoạn dướ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ổ tử cung: xóa- mở 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Khung chậ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Khung xương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hần mềm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hần chuyển động: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hần cố định: khung chậu, cổ tử cu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hần co bóp: co bóp, tạo ra cơn co để sổ thai ra ngoà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huyển dạ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o bóp của tử cung : tăng dần về thời gian và cường độ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ời gian  60 → 85 s, cường độ  35 → 65 mmHg, tần số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715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ác ngôi thai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57" name="Groupe 2"/>
          <p:cNvGrpSpPr/>
          <p:nvPr/>
        </p:nvGrpSpPr>
        <p:grpSpPr>
          <a:xfrm>
            <a:off x="900000" y="1816200"/>
            <a:ext cx="6566040" cy="3095640"/>
            <a:chOff x="900000" y="1816200"/>
            <a:chExt cx="6566040" cy="3095640"/>
          </a:xfrm>
        </p:grpSpPr>
        <p:pic>
          <p:nvPicPr>
            <p:cNvPr id="58" name="Picture 2" descr=""/>
            <p:cNvPicPr/>
            <p:nvPr/>
          </p:nvPicPr>
          <p:blipFill>
            <a:blip r:embed="rId1"/>
            <a:srcRect l="36358" t="0" r="0" b="0"/>
            <a:stretch/>
          </p:blipFill>
          <p:spPr>
            <a:xfrm>
              <a:off x="3319560" y="1816200"/>
              <a:ext cx="414648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"/>
            <p:cNvPicPr/>
            <p:nvPr/>
          </p:nvPicPr>
          <p:blipFill>
            <a:blip r:embed="rId2"/>
            <a:srcRect l="0" t="0" r="63189" b="5675"/>
            <a:stretch/>
          </p:blipFill>
          <p:spPr>
            <a:xfrm>
              <a:off x="900000" y="1931760"/>
              <a:ext cx="2398320" cy="291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e 3"/>
          <p:cNvGrpSpPr/>
          <p:nvPr/>
        </p:nvGrpSpPr>
        <p:grpSpPr>
          <a:xfrm>
            <a:off x="3635280" y="5102280"/>
            <a:ext cx="4643640" cy="1704960"/>
            <a:chOff x="3635280" y="5102280"/>
            <a:chExt cx="4643640" cy="1704960"/>
          </a:xfrm>
        </p:grpSpPr>
        <p:pic>
          <p:nvPicPr>
            <p:cNvPr id="61" name="Picture 3" descr=""/>
            <p:cNvPicPr/>
            <p:nvPr/>
          </p:nvPicPr>
          <p:blipFill>
            <a:blip r:embed="rId3"/>
            <a:srcRect l="9742" t="50009" r="0" b="0"/>
            <a:stretch/>
          </p:blipFill>
          <p:spPr>
            <a:xfrm>
              <a:off x="6141960" y="5102280"/>
              <a:ext cx="2136960" cy="17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"/>
            <p:cNvPicPr/>
            <p:nvPr/>
          </p:nvPicPr>
          <p:blipFill>
            <a:blip r:embed="rId4"/>
            <a:srcRect l="11274" t="0" r="0" b="50009"/>
            <a:stretch/>
          </p:blipFill>
          <p:spPr>
            <a:xfrm>
              <a:off x="3635280" y="5102280"/>
              <a:ext cx="2100960" cy="17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Ngôi thai 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03440" y="1393920"/>
            <a:ext cx="5834160" cy="531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gôi đầ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Chuyển động đầu đến thân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Đường kính trước sau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Đường kính lưỡng đỉnh  = 9,5 c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hẩm chậu trái trước +++ : 57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hẩm chậu phải sau  33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ẩm chậu trái sau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6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hẩm chậu phải trước 4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àn chậ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2f2b20"/>
                </a:solidFill>
                <a:latin typeface="Calibri"/>
              </a:rPr>
              <a:t>Khung xương chậ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Eo trê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Eo giữa ở chỗ lõm của xương chậu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Eo dướ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2f2b20"/>
                </a:solidFill>
                <a:latin typeface="Calibri"/>
              </a:rPr>
              <a:t>Phần mềm  : cơ đáy chậ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2f2b20"/>
                </a:solidFill>
                <a:latin typeface="Calibri"/>
              </a:rPr>
              <a:t>Cơ hông cụ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ác cơ nâng hậu mô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360" y="4462560"/>
            <a:ext cx="8263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àn chậ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Đo các đường kín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hỉ số e Magni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Đường kính nhô hậu vệ: 10,5 c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Đường kính ngang : 12,5 c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Đường kính lưỡng gai  : 10,5 c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ụp hình khung chậu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500720" y="4033800"/>
            <a:ext cx="3371760" cy="258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114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2:55:29Z</dcterms:created>
  <dc:creator>lambda</dc:creator>
  <dc:description/>
  <dc:language>en-US</dc:language>
  <cp:lastModifiedBy>thuy chi phan</cp:lastModifiedBy>
  <dcterms:modified xsi:type="dcterms:W3CDTF">2014-10-17T17:08:22Z</dcterms:modified>
  <cp:revision>195</cp:revision>
  <dc:subject/>
  <dc:title>Diapositive 1</dc:title>
</cp:coreProperties>
</file>